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A11-5C78-4058-A193-7A33615E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BCF-318B-41C6-9AA9-5E827517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B6FB-8FCE-4BF0-AB2B-6E3D1053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0B4-9F19-4F92-8578-0491373D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AB5-E3EE-4A04-B25F-C30AFB67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7466-FE92-4748-8633-65496076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626-25F1-4BC9-A058-D8BF543D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344-362E-4BE2-B6CC-F4B8EFE9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A6F-C617-45CA-9BA6-5FC6CFEE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CCE-5BD6-4743-A4B0-1ABC701F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405-82F4-448B-BD1F-8C3A28B3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DA1-B5AC-45A9-AA47-E0FE78C8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3DD0-C919-4B6E-9BB9-51B72835A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Ebenezer scro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Darkness was cheap, and scrooge like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R.i.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598000" y="3164400"/>
            <a:ext cx="3662640" cy="266724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lies a humble Scroo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op Hallo Whoop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I.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Ken Robinson</cp:lastModifiedBy>
  <dcterms:modified xsi:type="dcterms:W3CDTF">2011-12-02T12:41:17Z</dcterms:modified>
  <cp:revision>8</cp:revision>
  <dc:subject/>
  <dc:title>Slide 1</dc:title>
</cp:coreProperties>
</file>